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8E2-0182-4D44-8608-DA332E2E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168-9FF1-40D5-945B-5243A8B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098-357E-42D8-B589-CAC93853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CFC-3D8B-4F5F-8306-701B78D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60FB-9631-490A-944D-5F9CF48D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433-7E76-415F-896F-A021B94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4D3-5B96-4984-BA83-179F0A7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B9FF-20E3-4794-9D71-425FD2A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85FA-2E54-44B6-803E-35F4B88A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412-296D-4544-98A1-38A8EBC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12C-2A17-4141-9557-81CADD0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325-8C48-4D76-BC76-243E18B9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9A4-CDBE-450C-80AA-505270D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815-4692-4DB8-97B1-5734826C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9A6A-5202-4A5C-9835-6F207FB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FDE-EA1C-48C6-9D63-2692849C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D574-4570-495A-B806-0A1A3D08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3C3-FEF4-4888-B303-8E8D6E6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1F7-6D4B-4389-990D-586FF408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CAB-1ED8-43A1-B8E2-2F11788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57C-D258-40D7-96D6-B45B7F12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638-C3F0-4B7F-B31E-31A0CF1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51B-E63E-4C7B-9BC7-C14E528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940-844A-45CF-B968-14FD23E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47D-2AEB-469D-B975-8E0C4E07C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128-630B-4EAC-A17F-9108C2EB5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wl.english.purdue.edu/owl/resource/747/12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body’s Favorit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A Formattin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pson argues that “carbohydrates are necessary for the body” (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pson argues, “Carbohydrates are necessary for the body” (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hydrates are necessary for the body” (Thompson 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ebsite claims that any diet that avoids carbohydrates will avoid some sugars that are essential for the body (“Fad Diet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e period comes AFTER the citation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Qu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quoting material from a source and it takes up more than 4 typed lines, then you need to use LONG QUOTE FORM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: Indent ENTIRE quote 10 spaces (2 tabs), don’t use quotation marks, introduce with a full sentence and a colon instead of a comma, put the period BEFORE the parenthetical c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828800"/>
          <a:ext cx="9144000" cy="458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single quotation marks for a quotation enclosed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other quo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They’re insane,” said the principal.  “They are shouting, ‘We never want to leave our precious English class!’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a comma to introduce a quotation after a 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logue tag, a brief introductory phrase, or a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use, for example: He asked, “…” OR She stated, “…”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ording to Smith, “…”  OR  As Shakespeare wrote, “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According to Brown, “The craziest thing [she] ever saw was that sheep driving the rusty red pick-up truck” (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EVER, don’t use a comma to introduce quotes 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wn said that “the craziest thing [she] ever saw was that sheep driving the rusty red pick-up truck” (11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. and Mrs. Allen stated that they "refuse to use that pesticide" because of possible water pol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"The Gettysburg Address" Abraham Lincoln reminds his listeners of the principles that had inspired the creation of "a new nation" 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may use a colon to introduce a quotation, but the information that comes before the colon must be a complete sent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ederick expresses his concern about heart disease: “Deaths from heart disease in America will increase five-fold in the next twenty year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.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Power of My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 conversation about mythology, Joseph Campbell enlightens Bill Moyers about how a dream differs from a myth: “Oh, because a dream is a personal experience of that deep, dark ground that is the support of our conscious lives, and a myth is society’s dream" (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t periods OUTSIDE the closing quotation marks when a parenthetical reference follows the qu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wn recounts a bizarre memory: “The craziest thing I ever saw was that sheep driving the rusty red pick-up truck” (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t question marks and exclamation marks with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otation marks, if the mark belongs to the quoted 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then follow the quotation mark with the parenthe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and follow it with a final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question the man asked was, “Have you seen my sheep?” (Brown 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ding anything to a quote (ellipsis, extra words, etc.) use bra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Phil Withim objects to the idea that “such episodes are intended to demonstrate that 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. . .] has the intelligences and insight to perceive the deeper issue” (1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entence, “The man walked slowly into the forest,” it is unclear who “the man” is, so when you quote this write, “[Walter] walked slowly into the fores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s Cited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use Noodletools  or Easybib BUT be careful to choose the right type of source, otherwise you might miss entering in the right inf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o proofread and edit your Works Cited page even if you use Noodletools or Easybi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the page - Works Cited.  It should be centered, double spaced, regular font.  DO NOT BOLD or UNDERLINE TIT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space everyt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f your sources, align first line left and indent subsequent lines 1 t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phabet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use numbers or bullets or anyth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owl.english.purdue.edu/owl/resource/747/12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the 1st page of your p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2590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a sample. Make yours look JUST LIKE TH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1st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1523880"/>
          <a:ext cx="52405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523880"/>
                    <a:ext cx="5240520" cy="533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uble spaced he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gned to the lef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is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(First and 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Name (Mrs. 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Name (English 4 CP or GH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(MLA Format: ex. 15 January 20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is heading ONLY appears on the 1st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not appear on any other page!!!!! 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upper right-hand corner of the page:  Smith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d, View, Header and Footer to create your own header; instead of typing in the page number, use the Insert Page Number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er should look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Name pg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e above header should appear on EVERY SINGLE page of your paper in the upper right-hand corner!!!!!!!!**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 title that is centered, double spaced, regular font.  DO NOT BOLD or UNDERLINE TIT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your title look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Twelve Step Program Really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look at th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1st page agai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52480" y="1523880"/>
          <a:ext cx="52405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523880"/>
                    <a:ext cx="5240520" cy="533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s, Summaries, and Paraphras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n MLA parenthetical 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time you quote, summarize, or paraphrase an original source you must use a parenthetical citation.  MEANING: You typically put the author’s last name and page number at the end of the quote/summary/paraphr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(Silverman 2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known author, then use the title instead (use either the full title or an adequate abbrevi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Maya Angelou: Biography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s, Summaries, and Paraphras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n MLA parenthetical 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source is from the internet, it usually won’t have a page number.  SO, just use the author’s last name or (if the author is unknown) use the title of the article/website in the parenthetical ci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(Jones) OR (“Rosa Parks: Standing up for Freedom”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mention the author in the sentence, you don’t need to rewrite his name in the parenthetical citation. IF there is a page # then put that in the citation; if there are no page #s and if you mention the author in the sentence, you can leave out the c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49:02Z</dcterms:created>
  <dc:creator>PA Department of Education</dc:creator>
  <dc:description/>
  <dc:language>en-US</dc:language>
  <cp:lastModifiedBy>Parkland High School</cp:lastModifiedBy>
  <dcterms:modified xsi:type="dcterms:W3CDTF">2010-12-02T14:07:51Z</dcterms:modified>
  <cp:revision>36</cp:revision>
  <dc:subject/>
  <dc:title>Everybody’s Favorite…</dc:title>
</cp:coreProperties>
</file>